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A77-AB9E-4DA9-8548-CC39494C6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0604-74FA-4E12-B32C-3A44B319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43E-CCA2-4EA7-AA1A-F28637F6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479C-57CE-4D41-8C0A-6E5201B26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AAC9-B7B2-4297-BD88-050C9144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33DDC-CFB2-42BA-988F-3742DF66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437E-F50E-4733-8AFB-3CCF31326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ACE9E-B20F-449F-94AD-33E6B8A8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4878-7094-4882-92E0-D87AC79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1F5C-1060-4ADF-A4F8-26F101DA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BC126-E5E8-47C9-912F-B7F87A56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251D-4905-4FD8-9133-374BE015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F810-BD16-48BF-878F-6DDA2A74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5EFA-F9EB-49D1-9521-684B65ED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1BA-65A3-4BF7-97CF-8AB0556DC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182BE-67CE-451F-A60A-761C900F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16E-D136-4EAA-AA20-5766D900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4A4B-B1F3-4467-849C-9B55152D2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00F-DBF0-438B-AA2A-221CE0D3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156B-24C0-4919-A9AE-8281F1AB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54F-B9E3-4D46-BC38-32B3DEF9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873B-2029-4382-BC3E-DE9D158D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FC52-7013-4E65-8A1C-5B26E6D0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FD2-2CD4-4F7D-BD86-12D3D307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0D51-C9A6-4A0A-968D-3B137365761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D353-6B2B-47B3-86E0-EBBCD7193D1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健康知识与行为的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影响因素</a:t>
            </a:r>
            <a:endParaRPr b="0" lang="en-US" sz="6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828800" y="4508280"/>
            <a:ext cx="640080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健康教育能力建设课件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81080" y="114300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403280" y="836640"/>
            <a:ext cx="684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息传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察觉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视而不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知                                  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毫无兴趣                引起兴趣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感到需要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与己无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认真思考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可有可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信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相信信息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怀疑信息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产生动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侥幸心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尝试行动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犹豫不决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坚持行为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 无法坚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imes New Roman"/>
              </a:rPr>
              <a:t>行为确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08000" y="112536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8000" y="1628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08000" y="2133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08000" y="270828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08000" y="3357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386064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08000" y="436572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79640" y="4941720"/>
            <a:ext cx="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979640" y="5516640"/>
            <a:ext cx="0" cy="3045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484360" y="1052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628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220500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270828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328464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84360" y="3860640"/>
            <a:ext cx="8384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4437000"/>
            <a:ext cx="83808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5013360"/>
            <a:ext cx="83844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19920" y="11430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19920" y="28954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19920" y="44956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617220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553080" y="1142640"/>
            <a:ext cx="0" cy="6094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53080" y="2133720"/>
            <a:ext cx="0" cy="7617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6553080" y="2895480"/>
            <a:ext cx="0" cy="5335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380988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553080" y="4495680"/>
            <a:ext cx="0" cy="6098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5410080"/>
            <a:ext cx="0" cy="7621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资源与环境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价格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风俗习惯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政策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分组讨论：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以当地某健康问题为例，讨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目标人群需要掌握的知识、行为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影响知识、行为的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分组汇报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内容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69640" y="1699920"/>
            <a:ext cx="714708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对健康的意义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健康知识与行为的影响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个人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环境因素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435640" y="2781360"/>
          <a:ext cx="2617920" cy="31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35640" y="2781360"/>
                    <a:ext cx="2617920" cy="31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影响健康的因素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824400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遗传生物因素                 行为生活方式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健康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环境因素                               卫生服务因素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92320" y="2503440"/>
            <a:ext cx="4711680" cy="265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772400" cy="98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知识与行为的作用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增强个人和家庭卫生，预防重大传染病、寄生虫病及地方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改变生活方式，预防慢性非传染性疾病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积极利用卫生保健服务：计划免疫、定期体检、及时就诊、合理用药等。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752480" y="3733920"/>
            <a:ext cx="685800" cy="144756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1371600"/>
            <a:ext cx="685800" cy="1752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286000"/>
            <a:ext cx="533520" cy="2133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80" y="2514600"/>
            <a:ext cx="11552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健康促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13716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内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733920" y="48769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楷体_GB2312"/>
              </a:rPr>
              <a:t>外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1936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知识、信念 态度、价值观、技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1295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182880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2666880"/>
            <a:ext cx="914400" cy="1447920"/>
          </a:xfrm>
          <a:prstGeom prst="ellipse">
            <a:avLst/>
          </a:prstGeom>
          <a:solidFill>
            <a:srgbClr val="a7f7b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137160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5812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政策、财政    药物、卫生服务环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4080" y="3581280"/>
            <a:ext cx="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12952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295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358128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487692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541008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4952880" y="3581280"/>
            <a:ext cx="685800" cy="1828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53760" y="2819520"/>
            <a:ext cx="1399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行为</a:t>
            </a:r>
            <a:r>
              <a:rPr b="1" lang="zh-CN" sz="3600" spc="-1" strike="noStrike">
                <a:solidFill>
                  <a:srgbClr val="00ffff"/>
                </a:solidFill>
                <a:latin typeface="隶书"/>
                <a:ea typeface="隶书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281952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267080"/>
            <a:ext cx="160020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10280" y="14479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采取措施预防疾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28954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认识疾病及时就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426708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配合治疗积极康复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466280" y="1676520"/>
            <a:ext cx="911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健康教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313280" y="3809880"/>
            <a:ext cx="127764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政府领导部门配合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43000" y="25146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41148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38280" y="220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41972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352680"/>
            <a:ext cx="381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095880" y="1828800"/>
            <a:ext cx="838440" cy="838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5880" y="4114800"/>
            <a:ext cx="83844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得不到健康信息：缺乏获得信息的途径和资源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不关注健康信息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对健康信息不理解、记不住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00400" y="2514600"/>
            <a:ext cx="0" cy="2438280"/>
          </a:xfrm>
          <a:prstGeom prst="line">
            <a:avLst/>
          </a:prstGeom>
          <a:ln w="7632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638320" y="2057400"/>
            <a:ext cx="457560" cy="3276720"/>
            <a:chOff x="5638320" y="2057400"/>
            <a:chExt cx="457560" cy="3276720"/>
          </a:xfrm>
        </p:grpSpPr>
        <p:sp>
          <p:nvSpPr>
            <p:cNvPr id="197" name=""/>
            <p:cNvSpPr/>
            <p:nvPr/>
          </p:nvSpPr>
          <p:spPr>
            <a:xfrm>
              <a:off x="5867280" y="2514600"/>
              <a:ext cx="0" cy="2438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 flipV="1">
              <a:off x="563832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5867280" y="205740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 flipV="1">
              <a:off x="586692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38680" y="4876920"/>
              <a:ext cx="228600" cy="4572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知识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5640" y="1752120"/>
            <a:ext cx="748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外在因素：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供健康信息的途径、方法、时间不符合人群的特点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健康信息的针对性差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使用的材料不符合目标人群的特点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    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健康行为的影响因素</a:t>
            </a:r>
            <a:r>
              <a:rPr b="1" lang="zh-CN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94920" y="1752120"/>
            <a:ext cx="716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个人与家庭因素：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健康观念与知识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基本的卫生、健康技能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缺乏采纳健康行为的资源与条件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健康教育能力建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30T08:18:57Z</dcterms:created>
  <dc:creator>sun</dc:creator>
  <dc:description/>
  <dc:language>en-US</dc:language>
  <cp:lastModifiedBy>DuanYong</cp:lastModifiedBy>
  <dcterms:modified xsi:type="dcterms:W3CDTF">2010-02-23T03:40:41Z</dcterms:modified>
  <cp:revision>59</cp:revision>
  <dc:subject/>
  <dc:title>健康传播</dc:title>
</cp:coreProperties>
</file>